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8CB-0BF5-4F76-858D-24E5B061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8CF-BBFD-4107-9928-9A47879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0FB-8851-4649-B908-38AD157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B9F-55D9-442E-B4A7-8B2A217F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173-6D85-4BA6-9EFF-1007BB6A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E85-E5F3-4DD4-BC45-124D51DF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550-7B23-40EA-AAD1-891F1239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F3F-C68F-4325-AF06-6DD0633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E12-3151-4B95-A2BA-F8680BCC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1ED-5645-4645-8828-F736485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AF2-64F5-4DE8-B553-25D5FE8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3E3-D359-4805-9B1C-5095E90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C641-A31A-440F-BD6F-E53161996A89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2920" y="106200"/>
            <a:ext cx="878688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010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57120" y="546120"/>
            <a:ext cx="85010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02:04Z</dcterms:created>
  <dc:creator>Ministry of Education</dc:creator>
  <dc:description/>
  <dc:language>en-US</dc:language>
  <cp:lastModifiedBy>awahou</cp:lastModifiedBy>
  <dcterms:modified xsi:type="dcterms:W3CDTF">2009-11-18T01:21:50Z</dcterms:modified>
  <cp:revision>4</cp:revision>
  <dc:subject/>
  <dc:title>Slide 1</dc:title>
</cp:coreProperties>
</file>